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18B-A747-4A60-84ED-22700681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B6A-E858-4E86-891C-FC716607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00C-561B-4F20-B388-76ECFD10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661-25D0-479D-8C53-6D182BBC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CBE-CCB0-4483-970C-F1CD3740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34C-751C-49EC-A7AA-4377F343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D49-274F-4730-99BF-34E7D81E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F4B-D045-4C32-8766-C6DAAE20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41F-FBA3-4CCD-ACD4-88C176EC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CFD-04C9-4A67-86ED-B9980EB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72D-4E86-4600-B64A-17ACA70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770-3F6B-4D35-B0BE-98342D48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E1E1-E9E9-41FE-A909-58AD80B67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gl1" descr=""/>
          <p:cNvPicPr/>
          <p:nvPr/>
        </p:nvPicPr>
        <p:blipFill>
          <a:blip r:embed="rId1"/>
          <a:stretch/>
        </p:blipFill>
        <p:spPr>
          <a:xfrm>
            <a:off x="2971800" y="731880"/>
            <a:ext cx="3543480" cy="2681280"/>
          </a:xfrm>
          <a:prstGeom prst="rect">
            <a:avLst/>
          </a:prstGeom>
          <a:ln w="0">
            <a:noFill/>
          </a:ln>
        </p:spPr>
      </p:pic>
      <p:pic>
        <p:nvPicPr>
          <p:cNvPr id="42" name="zmi1" descr=""/>
          <p:cNvPicPr/>
          <p:nvPr/>
        </p:nvPicPr>
        <p:blipFill>
          <a:blip r:embed="rId2"/>
          <a:stretch/>
        </p:blipFill>
        <p:spPr>
          <a:xfrm>
            <a:off x="4000680" y="852480"/>
            <a:ext cx="2519280" cy="3314880"/>
          </a:xfrm>
          <a:prstGeom prst="rect">
            <a:avLst/>
          </a:prstGeom>
          <a:ln w="0">
            <a:noFill/>
          </a:ln>
        </p:spPr>
      </p:pic>
      <p:pic>
        <p:nvPicPr>
          <p:cNvPr id="43" name="tri1" descr=""/>
          <p:cNvPicPr/>
          <p:nvPr/>
        </p:nvPicPr>
        <p:blipFill>
          <a:blip r:embed="rId3"/>
          <a:stretch/>
        </p:blipFill>
        <p:spPr>
          <a:xfrm>
            <a:off x="2857680" y="3382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ugl1" descr=""/>
          <p:cNvPicPr/>
          <p:nvPr/>
        </p:nvPicPr>
        <p:blipFill>
          <a:blip r:embed="rId4"/>
          <a:stretch/>
        </p:blipFill>
        <p:spPr>
          <a:xfrm>
            <a:off x="2971800" y="731880"/>
            <a:ext cx="3543480" cy="2681280"/>
          </a:xfrm>
          <a:prstGeom prst="rect">
            <a:avLst/>
          </a:prstGeom>
          <a:ln w="0">
            <a:noFill/>
          </a:ln>
        </p:spPr>
      </p:pic>
      <p:pic>
        <p:nvPicPr>
          <p:cNvPr id="45" name="zmi1" descr=""/>
          <p:cNvPicPr/>
          <p:nvPr/>
        </p:nvPicPr>
        <p:blipFill>
          <a:blip r:embed="rId5"/>
          <a:stretch/>
        </p:blipFill>
        <p:spPr>
          <a:xfrm>
            <a:off x="6300720" y="2133720"/>
            <a:ext cx="2519280" cy="3314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21720"/>
            <a:ext cx="85341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ГЕНЕРУЮЧА КОМПАНІЯ       ВАТ “ЦЕНТРЕНЕРГО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                       </a:t>
            </a:r>
            <a:r>
              <a:rPr b="0" lang="uk-UA" sz="2800" spc="-1" strike="noStrike">
                <a:solidFill>
                  <a:srgbClr val="3333ff"/>
                </a:solidFill>
                <a:latin typeface="Times New Roman"/>
              </a:rPr>
              <a:t>Донецька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</a:t>
            </a:r>
            <a:r>
              <a:rPr b="0" lang="uk-UA" sz="2800" spc="-1" strike="noStrike">
                <a:solidFill>
                  <a:srgbClr val="0066ff"/>
                </a:solidFill>
                <a:latin typeface="Times New Roman"/>
              </a:rPr>
              <a:t>Харківська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Київська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30C-6A89-4C28-A28F-C8D26B1DE9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ff"/>
                </a:solidFill>
                <a:latin typeface="Times New Roman"/>
              </a:rPr>
              <a:t>ВАТ   „Центренерго”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122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дна із провідних  енергогенеруючих   компаній України, яка експлуатує три   теплові електростанції загальною встановленою   потужністю 7 575 МВт, що розташовані в трьох найбільш промислово розвинених регіонах держави (Харківська, Донецька, Київська області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 електростанціях компанії встановлено 23 енергоблоки потужністю від 175 МВт до 800 МВт, з яких 18 вугільні, а 5 призначені для використання газомазутного па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  2005 році в цілому завершено проект реконструкції енергоблоку № 8 Зміївської ТЕС, в результаті якої досягнуто можливість роботи котлоагрегату на вугіллі без підсвічувального палива, значно зменшилися витрати палива та викиди твердих речовин в атмосферу, збільшено  потужність енергоблоку на 25 М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се перелічене свідчить про високі конкурентні можливості комп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513400" y="2066760"/>
          <a:ext cx="3645000" cy="33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3400" y="2066760"/>
                    <a:ext cx="3645000" cy="33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839-EC51-4419-B666-D51BF9F81E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ff"/>
                </a:solidFill>
                <a:latin typeface="Times New Roman"/>
              </a:rPr>
              <a:t>Головні проблеми генеруючих компан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Необхідність залучення інвестицій в оновлення</a:t>
            </a:r>
            <a:br>
              <a:rPr sz="2200"/>
            </a:b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основних фонд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Необхідність підвищення ефективності роботи обладн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Необхідність підвищення  ефективності системи формування та регулювання цін на електроенергію, що виробляється ТЕ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14920" y="3789360"/>
            <a:ext cx="5329080" cy="30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B29-D13E-424C-95C3-4BE14071BD84}" type="slidenum">
              <a:t>3</a:t>
            </a:fld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ff"/>
                </a:solidFill>
                <a:latin typeface="Times New Roman"/>
              </a:rPr>
              <a:t>Теплова генерація у новому ринк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кладання прямих контрактів з споживач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часть у роботі енергобірж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часть у балансуючому ри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часть у ринку допоміжних по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амостійне складання графі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ідповідальність за дисбала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15772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5157720"/>
            <a:ext cx="554364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Збільшення комерційних можливостей компан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Збільшення ризиків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704-0D67-4F43-86BE-F9C210AD4B13}" type="slidenum">
              <a:t>4</a:t>
            </a:fld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Times New Roman"/>
              </a:rPr>
              <a:t>Необхідні зміни у внутрішніх операці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ть у різних ринках та самостійне складання графіків означає можливість та необхідність збалансування технічних та економічних умов Компанії, яки призведуть до збільшення доходів та підвищення ефективн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Важливо: необхідно знати рівень витрат та оптимізувати операційні витрати у відповідності до графіків</a:t>
            </a:r>
            <a:r>
              <a:rPr b="1" lang="en-GB" sz="1800" spc="-1" strike="noStrike">
                <a:solidFill>
                  <a:srgbClr val="cc3300"/>
                </a:solidFill>
                <a:latin typeface="Times New Roman"/>
              </a:rPr>
              <a:t>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ідповідальність за небаланси означає необхідність створення системи з управління ризиками та чіткої координації комерційних, економічних та технічних напрямків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Важливо</a:t>
            </a:r>
            <a:r>
              <a:rPr b="1" lang="en-GB" sz="1800" spc="-1" strike="noStrike">
                <a:solidFill>
                  <a:srgbClr val="cc3300"/>
                </a:solidFill>
                <a:latin typeface="Times New Roman"/>
              </a:rPr>
              <a:t>: </a:t>
            </a: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комерційні інтереси вимагають певних технічних рішень, інженери починають думати комерційними категоріями</a:t>
            </a:r>
            <a:r>
              <a:rPr b="1" lang="en-GB" sz="1800" spc="-1" strike="noStrike">
                <a:solidFill>
                  <a:srgbClr val="cc3300"/>
                </a:solidFill>
                <a:latin typeface="Times New Roman"/>
              </a:rPr>
              <a:t>!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явність різних ринків та складних правил їх функціон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Важливо</a:t>
            </a:r>
            <a:r>
              <a:rPr b="1" lang="en-GB" sz="1800" spc="-1" strike="noStrike">
                <a:solidFill>
                  <a:srgbClr val="cc3300"/>
                </a:solidFill>
                <a:latin typeface="Times New Roman"/>
              </a:rPr>
              <a:t>:  </a:t>
            </a: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необхідно створити ефективну систему управління контрактами, процесами реєстрації, поданням цінових пропози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F80-4394-4B86-93EE-18A658E789D7}" type="slidenum">
              <a:t>5</a:t>
            </a:fld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ff"/>
                </a:solidFill>
                <a:latin typeface="Times New Roman"/>
              </a:rPr>
              <a:t>Процес реформування ринку потребує певних змін у зовнішніх умовах його функціону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ворення конкурентного ринку пал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збавлення компаній від зайвої зарегульованості в усіх сферах діяльності, передусім, у сфері диспетчеризації, напрямків використання та розміру інвестицій, закупівель, корпоративних обме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міни в структурі капіталу компаній шляхом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їх приватизаці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522-3316-40F3-8EC4-D5677D8AC580}" type="slidenum">
              <a:t>6</a:t>
            </a:fld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66ff"/>
                </a:solidFill>
                <a:latin typeface="Times New Roman"/>
              </a:rPr>
              <a:t>Проблеми перехідного періоду для енергогенеруючих компан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Розподіл потужностей АЕС, ТЕС,ТЕЦ та Г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Визначення квот вироб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Паралельне існування “старої”                         та “нової” системи реалізації                               електроенерг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Надбання необхідних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навичок 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персоналом компан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56360" y="3068640"/>
            <a:ext cx="2987640" cy="37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C2A-AE79-41B9-93CB-AF5092418D47}" type="slidenum">
              <a:t>7</a:t>
            </a:fld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2:43:29Z</dcterms:created>
  <dc:creator>zplan</dc:creator>
  <dc:description/>
  <dc:language>en-US</dc:language>
  <cp:lastModifiedBy>Punina</cp:lastModifiedBy>
  <dcterms:modified xsi:type="dcterms:W3CDTF">2008-09-21T09:53:49Z</dcterms:modified>
  <cp:revision>22</cp:revision>
  <dc:subject/>
  <dc:title>Генеруючи Компанії у перехідний період</dc:title>
</cp:coreProperties>
</file>